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bmp" ContentType="image/bmp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304920"/>
            <a:ext cx="8382240" cy="6022800"/>
            <a:chOff x="380880" y="304920"/>
            <a:chExt cx="8382240" cy="6022800"/>
          </a:xfrm>
        </p:grpSpPr>
        <p:grpSp>
          <p:nvGrpSpPr>
            <p:cNvPr id="2" name=""/>
            <p:cNvGrpSpPr/>
            <p:nvPr/>
          </p:nvGrpSpPr>
          <p:grpSpPr>
            <a:xfrm>
              <a:off x="380880" y="1600200"/>
              <a:ext cx="8382240" cy="4727520"/>
              <a:chOff x="380880" y="1600200"/>
              <a:chExt cx="8382240" cy="4727520"/>
            </a:xfrm>
          </p:grpSpPr>
          <p:sp>
            <p:nvSpPr>
              <p:cNvPr id="3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600200"/>
                <a:ext cx="8363160" cy="4724640"/>
              </a:xfrm>
              <a:custGeom>
                <a:avLst/>
                <a:gdLst/>
                <a:ahLst/>
                <a:rect l="0" t="0" r="r" b="b"/>
                <a:pathLst>
                  <a:path fill="none" w="23231" h="13124">
                    <a:moveTo>
                      <a:pt x="23231" y="0"/>
                    </a:moveTo>
                    <a:lnTo>
                      <a:pt x="0" y="0"/>
                    </a:lnTo>
                    <a:lnTo>
                      <a:pt x="0" y="13124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99960" y="1600200"/>
                <a:ext cx="8363160" cy="4724640"/>
              </a:xfrm>
              <a:custGeom>
                <a:avLst/>
                <a:gdLst/>
                <a:ahLst/>
                <a:rect l="0" t="0" r="r" b="b"/>
                <a:pathLst>
                  <a:path fill="none" w="23231" h="13124">
                    <a:moveTo>
                      <a:pt x="23231" y="0"/>
                    </a:moveTo>
                    <a:lnTo>
                      <a:pt x="23231" y="13124"/>
                    </a:lnTo>
                    <a:lnTo>
                      <a:pt x="0" y="1312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3520" y="1751040"/>
              <a:ext cx="152640" cy="4421160"/>
              <a:chOff x="533520" y="1751040"/>
              <a:chExt cx="152640" cy="4421160"/>
            </a:xfrm>
          </p:grpSpPr>
          <p:sp>
            <p:nvSpPr>
              <p:cNvPr id="7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2640" cy="4420080"/>
              </a:xfrm>
              <a:custGeom>
                <a:avLst/>
                <a:gdLst/>
                <a:ahLst/>
                <a:rect l="0" t="0" r="r" b="b"/>
                <a:pathLst>
                  <a:path fill="none" w="424" h="12278">
                    <a:moveTo>
                      <a:pt x="0" y="12278"/>
                    </a:moveTo>
                    <a:lnTo>
                      <a:pt x="424" y="12278"/>
                    </a:lnTo>
                    <a:lnTo>
                      <a:pt x="424" y="0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520" y="1751040"/>
                <a:ext cx="152640" cy="4420080"/>
              </a:xfrm>
              <a:custGeom>
                <a:avLst/>
                <a:gdLst/>
                <a:ahLst/>
                <a:rect l="0" t="0" r="r" b="b"/>
                <a:pathLst>
                  <a:path fill="none" w="424" h="12278">
                    <a:moveTo>
                      <a:pt x="0" y="12278"/>
                    </a:moveTo>
                    <a:lnTo>
                      <a:pt x="0" y="0"/>
                    </a:lnTo>
                    <a:lnTo>
                      <a:pt x="42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380880" y="304920"/>
              <a:ext cx="305280" cy="1143360"/>
              <a:chOff x="380880" y="304920"/>
              <a:chExt cx="305280" cy="1143360"/>
            </a:xfrm>
          </p:grpSpPr>
          <p:sp>
            <p:nvSpPr>
              <p:cNvPr id="11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5280" cy="1143360"/>
              </a:xfrm>
              <a:custGeom>
                <a:avLst/>
                <a:gdLst/>
                <a:ahLst/>
                <a:rect l="0" t="0" r="r" b="b"/>
                <a:pathLst>
                  <a:path fill="none" w="848" h="3176">
                    <a:moveTo>
                      <a:pt x="848" y="0"/>
                    </a:moveTo>
                    <a:lnTo>
                      <a:pt x="0" y="0"/>
                    </a:lnTo>
                    <a:lnTo>
                      <a:pt x="0" y="3176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80880" y="304920"/>
                <a:ext cx="305280" cy="1143360"/>
              </a:xfrm>
              <a:custGeom>
                <a:avLst/>
                <a:gdLst/>
                <a:ahLst/>
                <a:rect l="0" t="0" r="r" b="b"/>
                <a:pathLst>
                  <a:path fill="none" w="848" h="3176">
                    <a:moveTo>
                      <a:pt x="848" y="0"/>
                    </a:moveTo>
                    <a:lnTo>
                      <a:pt x="848" y="3176"/>
                    </a:lnTo>
                    <a:lnTo>
                      <a:pt x="0" y="317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8000" y="1676520"/>
            <a:ext cx="8388360" cy="4419720"/>
            <a:chOff x="378000" y="1676520"/>
            <a:chExt cx="8388360" cy="4419720"/>
          </a:xfrm>
        </p:grpSpPr>
        <p:grpSp>
          <p:nvGrpSpPr>
            <p:cNvPr id="54" name=""/>
            <p:cNvGrpSpPr/>
            <p:nvPr/>
          </p:nvGrpSpPr>
          <p:grpSpPr>
            <a:xfrm>
              <a:off x="378000" y="1676520"/>
              <a:ext cx="8388360" cy="2210040"/>
              <a:chOff x="378000" y="1676520"/>
              <a:chExt cx="8388360" cy="2210040"/>
            </a:xfrm>
          </p:grpSpPr>
          <p:sp>
            <p:nvSpPr>
              <p:cNvPr id="55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8000" y="1676520"/>
                <a:ext cx="8369640" cy="2210040"/>
              </a:xfrm>
              <a:custGeom>
                <a:avLst/>
                <a:gdLst/>
                <a:ahLst/>
                <a:rect l="0" t="0" r="r" b="b"/>
                <a:pathLst>
                  <a:path fill="none" w="23249" h="6139">
                    <a:moveTo>
                      <a:pt x="23249" y="0"/>
                    </a:moveTo>
                    <a:lnTo>
                      <a:pt x="0" y="0"/>
                    </a:lnTo>
                    <a:lnTo>
                      <a:pt x="0" y="6139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720" y="1676520"/>
                <a:ext cx="8369640" cy="2210040"/>
              </a:xfrm>
              <a:custGeom>
                <a:avLst/>
                <a:gdLst/>
                <a:ahLst/>
                <a:rect l="0" t="0" r="r" b="b"/>
                <a:pathLst>
                  <a:path fill="none" w="23249" h="6139">
                    <a:moveTo>
                      <a:pt x="23249" y="0"/>
                    </a:moveTo>
                    <a:lnTo>
                      <a:pt x="23249" y="6139"/>
                    </a:lnTo>
                    <a:lnTo>
                      <a:pt x="0" y="613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380880" y="5943600"/>
              <a:ext cx="8382240" cy="152640"/>
              <a:chOff x="380880" y="5943600"/>
              <a:chExt cx="8382240" cy="152640"/>
            </a:xfrm>
          </p:grpSpPr>
          <p:sp>
            <p:nvSpPr>
              <p:cNvPr id="59" name=""/>
              <p:cNvSpPr/>
              <p:nvPr/>
            </p:nvSpPr>
            <p:spPr>
              <a:xfrm>
                <a:off x="380880" y="5943600"/>
                <a:ext cx="838188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640"/>
              </a:xfrm>
              <a:custGeom>
                <a:avLst/>
                <a:gdLst/>
                <a:ahLst/>
                <a:rect l="0" t="0" r="r" b="b"/>
                <a:pathLst>
                  <a:path fill="none" w="23284" h="424">
                    <a:moveTo>
                      <a:pt x="23284" y="0"/>
                    </a:moveTo>
                    <a:lnTo>
                      <a:pt x="0" y="0"/>
                    </a:lnTo>
                    <a:lnTo>
                      <a:pt x="0" y="424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2240" cy="152640"/>
              </a:xfrm>
              <a:custGeom>
                <a:avLst/>
                <a:gdLst/>
                <a:ahLst/>
                <a:rect l="0" t="0" r="r" b="b"/>
                <a:pathLst>
                  <a:path fill="none" w="23284" h="424">
                    <a:moveTo>
                      <a:pt x="23284" y="0"/>
                    </a:moveTo>
                    <a:lnTo>
                      <a:pt x="23284" y="424"/>
                    </a:lnTo>
                    <a:lnTo>
                      <a:pt x="0" y="42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36400" y="1905120"/>
              <a:ext cx="152640" cy="1752480"/>
              <a:chOff x="536400" y="1905120"/>
              <a:chExt cx="152640" cy="1752480"/>
            </a:xfrm>
          </p:grpSpPr>
          <p:sp>
            <p:nvSpPr>
              <p:cNvPr id="63" name=""/>
              <p:cNvSpPr/>
              <p:nvPr/>
            </p:nvSpPr>
            <p:spPr>
              <a:xfrm>
                <a:off x="536400" y="1906560"/>
                <a:ext cx="152280" cy="175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36400" y="1905120"/>
                <a:ext cx="152640" cy="1751400"/>
              </a:xfrm>
              <a:custGeom>
                <a:avLst/>
                <a:gdLst/>
                <a:ahLst/>
                <a:rect l="0" t="0" r="r" b="b"/>
                <a:pathLst>
                  <a:path fill="none" w="424" h="4865">
                    <a:moveTo>
                      <a:pt x="0" y="4865"/>
                    </a:moveTo>
                    <a:lnTo>
                      <a:pt x="424" y="4865"/>
                    </a:lnTo>
                    <a:lnTo>
                      <a:pt x="424" y="0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2640" cy="1751400"/>
              </a:xfrm>
              <a:custGeom>
                <a:avLst/>
                <a:gdLst/>
                <a:ahLst/>
                <a:rect l="0" t="0" r="r" b="b"/>
                <a:pathLst>
                  <a:path fill="none" w="424" h="4865">
                    <a:moveTo>
                      <a:pt x="0" y="4865"/>
                    </a:moveTo>
                    <a:lnTo>
                      <a:pt x="0" y="0"/>
                    </a:lnTo>
                    <a:lnTo>
                      <a:pt x="42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YECTO REDES N-R. 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bierno del Estado de N-R.W. financia un Proyecto de Investigación Económica de 3 años de duración en los ámbito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estructural del perfil productivo de la Cuenca del Ruhr (especialización histórica en carbón, acero e ind. metalmecánica pes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o de competitividad con sustentabilidad ambi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mización ventajas competitivas loc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cedentes de Partida del Proyecto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R.W.: 17,8 millones hbtes.,  PGB casi seis veces el de Chile. Da cuenta del 27% de la producción industrial y el 28% del valor exportado por la R.F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es industriales líderes: Química (sede de Bayer), plásticos, ingeniería mecánica, acero, ingeniería eléctrica, electrónica e industria alimen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 de las Top 500 empresas alemanas tienen su sede en N-R.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cedentes de Partida del Proyecto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752480"/>
            <a:ext cx="7772400" cy="42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del Ruhr (comprende desde Dortmund a Duisburg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fío de reconversión productiva; sectores líderes declinantes: carbón, acero, metalmec. pesada. Pérdida de Empleos. Baja tasa relativa de cr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osas instituciones vinculadas a I+D, Desarrollo Tecnológico, Formación técnica en todo el Estado (nivel “meso”) altamente especializadas, con baja interacción, coordinación, difusión y evaluación de impa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estructura vial, ferroviaria, productiva altamente desarrollada. Recuperación ambiental y espacial exit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espacios de articulación entre actores a nivel local (conferencias regiona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se espera del Proyec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6002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as concretas de articulación productiva, micro y mesoeconómica, a nivel local y estadual, en torno a: ventajas competitivas localizadas, sectores emergentes, empresas líderes, clusters y redes de innovación y transferencia tecn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y evaluación de mecanismos de coordinación y “governancia” al nivel estadual (Gobierno de N-R. W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ción y promoción de intercambio de buenas prácticas con Corea del Sur (modelo capitalista énfasis estatista) y Chile (modelo capitalista énfasis neoliber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boración y pasantías entre los 3 países en temas de: dinamización productiva, innovación y descentr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s del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 Esc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papers regulares INE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Libros (estudio de caso N-R.W.; comparación modelos de capitalismo 3 países; competitividad y sustentabilidad; descentralización, espacios me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ios y workshop en Alemania, y en Chile y Corea (cofinanciado con contrapartes locales) sobre experiencias regionales de reconversión productiva; redes de dinamización e innovación reg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sorías específicas a Gobiernos estadual y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es e hitos de colaboración institucional permanente (EU, A.Latina, Asia Pacíf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o Maggi</dc:creator>
  <dc:description/>
  <dc:language>en-US</dc:language>
  <cp:lastModifiedBy>Claudio Maggi</cp:lastModifiedBy>
  <cp:revision>0</cp:revision>
  <dc:subject/>
  <dc:title>PROYECTO REDES N-R. W.</dc:title>
</cp:coreProperties>
</file>